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DE1F-BAAA-4032-9CAC-6CF62C3C8E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FB0F-6075-4199-B8CD-294C683421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FCC2-F3FF-4401-A152-D08662BB9E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A04D-AA18-4BC7-8F68-6241DBDAAB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6B90-98B1-4851-B5DA-85D0A6FA8B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E0EC-9DD1-4A00-83AE-81A4217F271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5958-9704-470C-B7AC-79775E16A0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485C-1D95-4F50-AD48-7059950E55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B19-C5A4-44D3-B7F0-4E218E10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F7E-797E-4DC0-AD2F-5BCB6FDC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695-BC66-4023-95F3-8DE58525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9793-972A-4B3E-AC8F-F761EB9E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4076-4E79-483D-94D0-0CC3C3F3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DB8-E4DB-43A0-B6B0-B6F3853D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616-3A70-4BFD-A59E-2D8BA48A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3999-FB15-4426-B2C6-72D11E8E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EA8-28B8-447C-AAED-30F2BB5F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002-6FCD-4CB7-9C03-67044924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3929-8B50-4A62-96B8-F98B2A06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77C-3F92-47BF-801B-8E72D08E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5A31-3253-43AB-A3BF-A9AAB929B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ICE-BASED SYSTEMS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E TINDWA, DANNY COYNE, VICTOR AFARI-SEFA, BAKARI KAONEKA, GEORGE MHINA, SILVEST SAMALI, JONNE RODENBU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2285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Vegetable production constrai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290664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access (e.g. quality see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sts &amp; dis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 harv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ice production 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1640" y="29066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eds (incl. wild ri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sts (incl. birds) &amp; dis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fert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vest &amp; post harvest lo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le 3"/>
          <p:cNvSpPr/>
          <p:nvPr/>
        </p:nvSpPr>
        <p:spPr>
          <a:xfrm>
            <a:off x="457200" y="1600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 big five production constr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20520" y="13716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ommunity-based seed and seedling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d cv’s, good quality and clean seeds, healthy seedlings, promotion of good planting methods (e.g. timing, land preparation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ntegrated crop manageme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iming of operations, cropping sequences (rotations), labour-saving technologies,  small-mech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Water-man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UE-enhancing technologies (e.g. drip irrigation, AWD/aerobic rice systems), water harvesting/ water conservation (e.g. bunding, ridg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arvest and post-harvest hand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mall mechanization (e.g. harvesters, threshers), improved packaging, grading and standard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Mark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rehouse receipt systems, farmer organizations to improve market access, farmer access to dedicated markets (avoiding trader’s and elevated prices), food quality and safety standa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le 3"/>
          <p:cNvSpPr/>
          <p:nvPr/>
        </p:nvSpPr>
        <p:spPr>
          <a:xfrm>
            <a:off x="-76320" y="7621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echnologies addressing major constraints using G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0" y="3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hat combination of technologies would potentially fit in this system (bearing constraints in mind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00" y="-3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9144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ess current situation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x-an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mpact study, incl. biophysical constraint assessment: yield gap, diagnostic and base-line survey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fricaRice already developed surveys for th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Multi-Stakeholder Platform (MSP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’s for stakeholder/farmer meetings to assess resources, constraints, needs and opportunities in terms of intensification &amp; diversification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… along the value chain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sensitization and training/awarenes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monstrations and evaluation of seed and seedling system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-based demonstration trials on rice-vegetable(-livestock) integrated system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ter management demo trial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chanization: introduction, evaluation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(and adaptation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variety evaluation (rice and vegetables)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evaluating improved post harvest handling practices (e.g. packaging, processing)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 analyses and farmer evaluation exercises (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 farmer groups and dedicated market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br>
              <a:rPr sz="4000"/>
            </a:b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PARTN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I’s: IITA, AfricaRice, AVRDC, IL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LDO’s of Kilombero and Mvom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TI-Tenge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P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RIN and Dakawa - 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COLLABOR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FAK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ro deal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ed suppliers/compan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AT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ermech Engineerin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MARTE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F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’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 universities (…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676520" y="24955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22560" y="4933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5013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omic Sans MS"/>
                <a:ea typeface="Arial"/>
              </a:rPr>
              <a:t>2.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02:04Z</dcterms:created>
  <dc:creator>LeBorgne, Ewen (ILRI)</dc:creator>
  <dc:description/>
  <dc:language>en-US</dc:language>
  <cp:lastModifiedBy>LeBorgne, Ewen (ILRI)</cp:lastModifiedBy>
  <dcterms:modified xsi:type="dcterms:W3CDTF">2012-10-09T12:14:27Z</dcterms:modified>
  <cp:revision>32</cp:revision>
  <dc:subject/>
  <dc:title>What component technologies  would fit in this system?</dc:title>
</cp:coreProperties>
</file>